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ABA-2FCA-460A-9530-C27134F1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B51-6F39-4C73-A8AB-B1BCB359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8B1-32FD-4069-9015-A88A110F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C3A-5737-4B67-BABA-1C8CA0C9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FF12-5389-46F0-AC17-46AB0A12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E018-21E1-4C0C-8058-20CEF73B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2526-C358-445F-BEAF-BBD674D3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E76F-C893-4E2E-8510-6F24502D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CD5C-006A-43E2-95BE-7B49BEDC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753F-760E-40D4-AF4A-6D0E3003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9408-D0F3-4AC0-B1B8-29FD9B0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3D0-EAE9-416F-B4FF-CF3DE242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7F22-FC87-4EB2-85C0-FDE0F2B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7255-32BA-4150-8890-8F03C9D0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4551-8D5B-4FE7-A723-9D656931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818D-5AC8-4D2B-92E8-94DED1BB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C069-491B-4920-BF35-30350C7F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5E1-4660-44C9-9046-1C2C1AD6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7CC-22E7-4A09-B1E1-0A3C259E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C65-7493-45BE-BDCF-20DBE247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316-3107-4D1F-9659-26AE330E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222-2615-4547-8D76-91691CC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BEA-68E3-49A8-93D2-962D1037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6A3-71BC-4D3C-9AE3-71B45BFD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A30A-5343-487A-8206-44F5C24588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F704-A5C4-45C7-9C9D-E88551621B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L DIVISION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LOPHASE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tokinesis begins with the appearance of a cleavage furrow.Chromatids reach the poles and nuclear membrane reform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YTOKINESIS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division of the cytoplasm. 2 daughter cells appear. Chromosomes disappear again as interphase begins agai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MITOSI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INTERPHA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PROPHASE (root tip)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2179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21798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              and            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METAPHA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ANAPHA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217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2179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               and           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TELOPHA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DAUGHTER CELL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 Divisio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can reproduce, that is they can produce NEW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, living things GR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 process by which cells re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TOSI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controls cell div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the nucleus are CHROMOSOM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cell parts that determine what traits a living thing will h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cell division, each chromosome makes and EXACT COPY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NIMAL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PLAN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lls have the SAME MITOSIS steps, but look differen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TOKI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of Cell Division is the made an identical copy of that cel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by the Nucleus of the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Interphase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(resting cell): nuclear membrane intact, chromosomes NOT appare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Prophas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hromatin becom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per-coiled and compact, nucleoli disappear.  Each duplicated chromosome appears as 2 identical sister chromatids joined at the center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METAPHAS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hromosomes line up single file on the equator of the cell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73240" y="16002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NAPHAS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ingle chromatids move towards opposite ends of the cell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2:19:07Z</dcterms:created>
  <dc:creator>System Operations</dc:creator>
  <dc:description/>
  <dc:language>en-US</dc:language>
  <cp:lastModifiedBy>Tera Linn</cp:lastModifiedBy>
  <dcterms:modified xsi:type="dcterms:W3CDTF">2011-10-20T19:24:48Z</dcterms:modified>
  <cp:revision>22</cp:revision>
  <dc:subject/>
  <dc:title>CELL DIVISION:</dc:title>
</cp:coreProperties>
</file>